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A247-A3BA-4C01-BF44-71D2739D26F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870D-124A-4267-B9DD-CFAC33C6FBF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C037-364F-4D59-8027-239153FC795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D7F6-EA9C-4217-9E72-33091B70F5E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dicazione bibliografic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ontenuti espressi nel titolo della presentazione fanno parte dei contenuti trattati e sviluppati nel testo: “Il Minivolley: fondamenti scientifici e metodologia applicativa” di Pittera, Pedata, Ligas, Pasqualoni, Calzetti Edi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6230-DDE9-4F01-AA95-20AE8CC7853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F33-F843-415A-8C66-AC183350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C1C-06A0-4DD1-B3DB-4A9421A0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1AC-F1DB-4A8A-8DDB-E34DB2EA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FE5-66E2-4B9A-BE1A-DB1249B8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2664-D4FC-41DF-963D-0108FEDD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D6A8-B067-4D7A-BED8-6E90467A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1249-BB7C-4E76-AF07-CEF942C3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1FF8-A560-4587-A79B-EF657851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EFFD-6E16-4B82-9EE3-FEEDE4C1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A68A-E525-4F96-91BF-7A29EEE0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69F6-74E2-4523-B4B1-847C35AE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1EC-A044-448B-8D75-6F072EF7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A258-64EE-4AB6-853D-78908EAA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D55D-13EB-41E6-B77B-26BBD351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57C4-4D70-4EA5-9A13-1631EB19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7E6D-273D-4351-B6E1-0EA822EF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3745-812D-4F82-828D-327E444B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624-DBDE-4D81-A33B-B01EBA7A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021-2020-4F51-88F8-8153BFF5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287-31F0-41B8-BB4D-5B534C91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998-ECD5-48A7-A332-952A1A4F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C50-E000-488B-AD0A-E182ECDE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111-2A36-46AA-9219-6D98ABC9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F8F-B7F7-4C86-9D42-6CA3C086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E9EA-2E88-4A6A-8929-B06CD88D447A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1" descr="logo FIPAV hires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8028000" y="5445000"/>
            <a:ext cx="900000" cy="1081080"/>
          </a:xfrm>
          <a:prstGeom prst="rect">
            <a:avLst/>
          </a:prstGeom>
          <a:ln w="0">
            <a:noFill/>
          </a:ln>
        </p:spPr>
      </p:pic>
      <p:sp>
        <p:nvSpPr>
          <p:cNvPr id="10" name="Text Box 12"/>
          <p:cNvSpPr/>
          <p:nvPr/>
        </p:nvSpPr>
        <p:spPr>
          <a:xfrm rot="16200000">
            <a:off x="-1634040" y="4853160"/>
            <a:ext cx="35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rebuchet MS"/>
              </a:rPr>
              <a:t>© by FIPAV  - Centro Qualificazione Na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2" descr="logo FIPAV hires"/>
          <p:cNvPicPr/>
          <p:nvPr/>
        </p:nvPicPr>
        <p:blipFill>
          <a:blip r:embed="rId2"/>
          <a:stretch/>
        </p:blipFill>
        <p:spPr>
          <a:xfrm>
            <a:off x="8028000" y="5445000"/>
            <a:ext cx="900000" cy="1081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3"/>
          <p:cNvSpPr/>
          <p:nvPr/>
        </p:nvSpPr>
        <p:spPr>
          <a:xfrm rot="16200000">
            <a:off x="-1634040" y="4853160"/>
            <a:ext cx="35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rebuchet MS"/>
              </a:rPr>
              <a:t>© by FIPAV  - Centro Qualificazione Na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1B6E-463D-49E6-8197-D7E73371EBD9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Berlin Sans FB"/>
              </a:rPr>
              <a:t>CORSO ALLIEVO ALLENATORE PRIMO LIVELLO GIOVANIL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erlin Sans FB"/>
              </a:rPr>
              <a:t>MODULO 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erlin Sans FB"/>
              </a:rPr>
              <a:t>PREPARAZIONE MOTORIA 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erlin Sans FB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Berlin Sans FB"/>
              </a:rPr>
              <a:t>Le caratteristiche dei movimenti generali e specifici della pallavolo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rebuchet MS"/>
              </a:rPr>
              <a:t>OBIETTIVO GENERALE DEL MODULO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Dall’analisi della dinamica dei processi di apprendimento motorio e dalla valutazione qualitativa dei suddetti processi è possibile identificare come il giovane affronta alcune importanti problematiche dell’esecuzione del movimento. I contenuti identificati sono strettamente attinenti alla motricità implicata nelle discipline di situazione ed alle principali caratteristiche che la contraddistinguono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rebuchet MS"/>
              </a:rPr>
              <a:t>LE CARATTERISTICHE DEL MOVIMENTO NELLA PALLAVOLO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Accelerazione e decelerazio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ateralizzazio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a traiettoria della pall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ttura, interpretazione ed anticipazione dell’ambien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La palla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La gestualità dei compagni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La gestualità degli avversari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rebuchet MS"/>
              </a:rPr>
              <a:t>DOMANDE E CONSIDERAZIONI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0" name="Picture 4" descr="BD18217_"/>
          <p:cNvPicPr/>
          <p:nvPr/>
        </p:nvPicPr>
        <p:blipFill>
          <a:blip r:embed="rId1"/>
          <a:stretch/>
        </p:blipFill>
        <p:spPr>
          <a:xfrm>
            <a:off x="755640" y="2708280"/>
            <a:ext cx="139068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BD18217_"/>
          <p:cNvPicPr/>
          <p:nvPr/>
        </p:nvPicPr>
        <p:blipFill>
          <a:blip r:embed="rId2"/>
          <a:stretch/>
        </p:blipFill>
        <p:spPr>
          <a:xfrm>
            <a:off x="6227640" y="3357720"/>
            <a:ext cx="1897200" cy="274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BD18217_"/>
          <p:cNvPicPr/>
          <p:nvPr/>
        </p:nvPicPr>
        <p:blipFill>
          <a:blip r:embed="rId3"/>
          <a:stretch/>
        </p:blipFill>
        <p:spPr>
          <a:xfrm>
            <a:off x="2556000" y="4365720"/>
            <a:ext cx="1050840" cy="1522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BD18217_"/>
          <p:cNvPicPr/>
          <p:nvPr/>
        </p:nvPicPr>
        <p:blipFill>
          <a:blip r:embed="rId4"/>
          <a:stretch/>
        </p:blipFill>
        <p:spPr>
          <a:xfrm>
            <a:off x="2916360" y="1628640"/>
            <a:ext cx="844560" cy="122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BD18217_"/>
          <p:cNvPicPr/>
          <p:nvPr/>
        </p:nvPicPr>
        <p:blipFill>
          <a:blip r:embed="rId5"/>
          <a:stretch/>
        </p:blipFill>
        <p:spPr>
          <a:xfrm>
            <a:off x="5940360" y="1773360"/>
            <a:ext cx="844560" cy="1224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9"/>
          <p:cNvSpPr/>
          <p:nvPr/>
        </p:nvSpPr>
        <p:spPr>
          <a:xfrm>
            <a:off x="3564000" y="2203560"/>
            <a:ext cx="25923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 algn="ctr">
              <a:lnSpc>
                <a:spcPct val="80000"/>
              </a:lnSpc>
              <a:spcBef>
                <a:spcPts val="8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600" spc="-1" strike="noStrike">
                <a:solidFill>
                  <a:srgbClr val="9999ff"/>
                </a:solidFill>
                <a:latin typeface="Book Antiqua"/>
              </a:rPr>
              <a:t>?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5:47:45Z</dcterms:created>
  <dc:creator>Bellotti</dc:creator>
  <dc:description/>
  <dc:language>en-US</dc:language>
  <cp:lastModifiedBy>Utente</cp:lastModifiedBy>
  <dcterms:modified xsi:type="dcterms:W3CDTF">2016-05-22T17:30:50Z</dcterms:modified>
  <cp:revision>10</cp:revision>
  <dc:subject/>
  <dc:title>Diapositiva 1</dc:title>
</cp:coreProperties>
</file>